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C6DA-DE94-4AE2-9B77-6FBDB1BB4F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Factor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7 - Biotechnolo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Fa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 occurs when oxygen is not availabl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naerobic respiration the glucose is only partially broken down, and lactic acid is produc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 occurs when oxygen is not avail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aerobic respiration the glucose is only partially broken down, and lactic acid is pro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yeast cells in the absence of oxygen are still able to use sugar as their source of food to make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known as ferm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is case ethanol (alcohol) is produced instead of lactic aci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yeast cells in the absence of oxygen are still able to use sugar as their source of food to mak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known as 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case ethanol (alcohol) is produced instead of lact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Fermentation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ethanol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Fermen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ethano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oxygen always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ugar completely broken down to carbon dioxide and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xygen alway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gar completely broken down to carbon dioxide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oxygen never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in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releases a small amount of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uch of the energy remains locked up in the molecules of the end product (e.g. the alcohol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xygen never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leases a small amount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uch of the energy remains locked up in the molecules of the end product (e.g. the alcoh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Quiz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you sort out the following statements into aerobic or anaerobic respir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st fill them into your tabl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ort out the following statements into aerobic or anaerobic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fill them into your ta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+ oxyge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water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ethano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never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always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gar completely broken down to carbon dioxide and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ly releases a small amount of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reacts in the mitochondra of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ch of the energy remains locked up in the molecules of the end produc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wat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ethan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never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alway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completely broken down to carbon dioxide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releases a small amount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reacts in the mitochondra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of the energy remains locked up in the molecules of the end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eadmak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d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kers use two simple facts of life to create soft, spongy, moist bread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rst, they use the fact that yeast (a single-cell fungi) will eat sugar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rom the sugar yeast creates alcohol and carbon dioxide gas as waste produc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carbon dioxide gas created by yeast is what gives bread its airy texture, an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alcohol, which burns off during baking, leaves behind an important component of bread's flavo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ers use two simple facts of life to create soft, spongy, moist brea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they use the fact that yeast (a single-cell fungi) will eat suga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rom the sugar yeast creates alcohol and carbon dioxide gas as waste produ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carbon dioxide gas created by yeast is what gives bread its airy texture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alcohol, which burns off during baking, leaves behind an important component of bread's flav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cond, wheat flour, if mixed with water and kneaded, becomes very elastic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flour-and-water mixture in bread becomes stretchy like a balloon because of a protein in wheat known as glut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gluten gives bread dough the ability to capture the carbon dioxide produced by yeast in tiny flour ballo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, wheat flour, if mixed with water and kneaded, becomes very elast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flour-and-water mixture in bread becomes stretchy like a balloon because of a protein in wheat known as glut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luten gives bread dough the ability to capture the carbon dioxide produced by yeast in tiny flour ball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ccharomyces cerevisia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YEAST!!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ccharomyces cerevisia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AS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t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exploratorium.edu/cooking/bread/bread_science.htm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exploratorium.edu/cooking/bread/bread_scienc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o make bread…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will need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ur with added salt and lard rubbed in to make d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 added to warm sugar solution and allowed to grow to produce bubb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 the yeast and the flour together in a bow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make bread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ur with added salt and lard rubbed in to make d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added to warm sugar solution and allowed to grow to produce bub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 the yeast and the flour together in a bow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neading the d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eading the d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ving the mixture to ri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 left in warm place covered by damp clo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ing the mixture to 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 left in warm place covered by damp cl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ng the d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 releases CO2 bubbles making dough ri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ng the d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releases CO2 bubbles making dough 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king brea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ter dough rises a couple of hours in a warm place, it's ready to go into the ove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, heat causes pockets of gas in the dough to expan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ing b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dough rises a couple of hours in a warm place, it's ready to go into the ov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, heat causes pockets of gas in the dough to exp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 celled micro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 of fung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ist on all living mat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chromoso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ndreds of different specie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celled micro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fun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on all living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dreds of different speci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may not look much like yeast or they like us, but many of the 6,000 genes in yeast have counterparts in human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y not look much like yeast or they like us, but many of the 6,000 genes in yeast have counterparts in huma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ooking at Ye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oking at Y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 as a Living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a living organism, just like us, yeast needs the following to survive and flourish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uga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arm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iration is the process by which a living organism releases energy from its foo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as a Living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living organism, just like us, yeast needs the following to survive and flouris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arm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 is the process by which a living organism releases energy from it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you remember the difference between aerobic and anaerobic respir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remember the difference between aerobic and anaerobic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s produce energy through 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erobic respiration glucose reacts with oxygen in the mitochondria of the cells to release energ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and water are by-products of the reac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produce energy through 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erobic respiration glucose reacts with oxygen in the mitochondria of the cells to release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and water are by-products of the rea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+ oxygen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water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 + oxyge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wat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82C9-1C45-4B54-8C6C-8E799179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F87C-DD63-434A-82DB-ECE53DF6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2FC0-65F0-497A-BC41-7CA93005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2FE8-0683-4860-A7CF-870901D78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FEC8-1BC9-4C95-8AD9-30E4CE52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F3AB-7B1D-4F4B-A635-01D4425A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BD0E-30BA-4D56-9C51-23C2F5FF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CB12-17A9-4BE4-903F-D8A56A1B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BF73-A367-45F9-A771-D31BEDFB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2F68-7B1B-4192-86EA-4DC6B8E7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5EF7-CD1F-4F14-820E-5E13459C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B685-A5E8-4ADB-B044-4A5DC78E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8364-01AD-4DC0-B78B-85F1FEC9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3434-7D57-456C-8B54-FE799470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88F1-AA26-49D1-890F-45882046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1370-F781-40CF-A8C2-89D9AD9E5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7D68-8E0C-433E-BC2B-401ADF2B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7248-C5DD-4FFC-BE35-8DBCA9B1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53C4-73B1-48E0-8823-4A4412DC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DF7B-EB56-41EB-827A-AE5B2265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1F76-F030-4371-8FEC-43708C1F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24FB-860F-4EB9-B686-B1075137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7AC2-ADA5-4924-9218-F57F0C93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0EAB-D998-46D3-8290-44B9F57F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70AB-47DC-4067-A201-D8A5B3F52C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18C5-682C-43B6-ADEC-693BE6B556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Living Factori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t 7 - Bio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Anaerobic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erobic respiration occurs when oxygen is not availab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naerobic respiration the glucose is only partially broken down, and lactic acid is produc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Ferment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ving yeast cells in the absence of oxygen are still able to use sugar as their source of food to make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known as ferm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case ethanol (alcohol) is produced instead of lactic aci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Anaerobic Respiration</a:t>
            </a:r>
            <a:br>
              <a:rPr sz="4000"/>
            </a:b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(Fermentation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uco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 dioxi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ethano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2124000" y="371628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Aerobic Vs. Anaerobic Respi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erob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oxygen always requ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efficient method of respi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sugar completely broken down to carbon dioxide and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Aerobic Vs. Anaerobic Respi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erob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oxygen never requ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inefficient method of respi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releases a small amount of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much of the energy remains locked up in the molecules of the end product (e.g. the alcoho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Quick Quiz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40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-1404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you sort out the following statements into aerobic or anaerobic respir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-1404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st fill them into your tabl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179280" y="260280"/>
            <a:ext cx="5977080" cy="1236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Glucose + oxygen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water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2916360" y="549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843280" y="4149720"/>
            <a:ext cx="5184720" cy="1236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Glucose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ethanol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4211640" y="443700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3564000" y="5641920"/>
            <a:ext cx="158436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 never requi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395280" y="5373720"/>
            <a:ext cx="158436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 always requi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276720" y="1700280"/>
            <a:ext cx="2736720" cy="825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efficient method of respi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6156360" y="5661000"/>
            <a:ext cx="2736720" cy="825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icient method of respi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3708360" y="2708280"/>
            <a:ext cx="3960720" cy="1236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ugar completely broken down to carbon dioxide and water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4005360"/>
            <a:ext cx="230364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releases a small amount of ener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6335640" y="765000"/>
            <a:ext cx="280836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ucose reacts in the mitochondra of ce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179280" y="1628640"/>
            <a:ext cx="2808360" cy="199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Much of the energy remains locked up in the molecules of the end product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The finished batch of bread.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264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46988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Tahoma"/>
              </a:rPr>
              <a:t>Breadmaking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Bread Basics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kers use two simple facts of life to create soft, spongy, moist bread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rst, they use the fact that yeast (a single-cell fungi) will eat sugar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from the sugar yeast creates alcohol and carbon dioxide gas as waste produc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the carbon dioxide gas created by yeast is what gives bread its airy texture, an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the alcohol, which burns off during baking, leaves behind an important component of bread's flavo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Bread Basics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, wheat flour, if mixed with water and kneaded, becomes very elasti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the flour-and-water mixture in bread becomes stretchy like a balloon because of a protein in wheat known as glut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gluten gives bread dough the ability to capture the carbon dioxide produced by yeast in tiny flour balloo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Budding yeast cells"/>
          <p:cNvPicPr/>
          <p:nvPr/>
        </p:nvPicPr>
        <p:blipFill>
          <a:blip r:embed="rId1"/>
          <a:srcRect l="0" t="0" r="0" b="11695"/>
          <a:stretch/>
        </p:blipFill>
        <p:spPr>
          <a:xfrm>
            <a:off x="324000" y="1557360"/>
            <a:ext cx="3887640" cy="3871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Scientists are using yeast as a model organism to study how genes and proteins interact in the living cell "/>
          <p:cNvPicPr/>
          <p:nvPr/>
        </p:nvPicPr>
        <p:blipFill>
          <a:blip r:embed="rId2"/>
          <a:srcRect l="0" t="0" r="0" b="28109"/>
          <a:stretch/>
        </p:blipFill>
        <p:spPr>
          <a:xfrm>
            <a:off x="4427640" y="1844640"/>
            <a:ext cx="4227480" cy="3357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Saccharomyces cerevisiae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763640" y="558972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AST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Tahoma"/>
              </a:rPr>
              <a:t>Glut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ttp://www.exploratorium.edu/cooking/bread/bread_science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How to make bread…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will nee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our with added salt and lard rubbed in to make dou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east added to warm sugar solution and allowed to grow to produce bub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x the yeast and the flour together in a bow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6" descr="The Dough"/>
          <p:cNvPicPr/>
          <p:nvPr/>
        </p:nvPicPr>
        <p:blipFill>
          <a:blip r:embed="rId1"/>
          <a:stretch/>
        </p:blipFill>
        <p:spPr>
          <a:xfrm>
            <a:off x="4572000" y="1989000"/>
            <a:ext cx="4389480" cy="329256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4.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Kneading the doug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5" name="Picture 5" descr="Sarah Kneeding the Dough"/>
          <p:cNvPicPr/>
          <p:nvPr/>
        </p:nvPicPr>
        <p:blipFill>
          <a:blip r:embed="rId1"/>
          <a:stretch/>
        </p:blipFill>
        <p:spPr>
          <a:xfrm>
            <a:off x="900000" y="1341360"/>
            <a:ext cx="7272360" cy="522936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5.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Leaving the mixture to ris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8" name="Picture 4" descr="The Dough Rising"/>
          <p:cNvPicPr/>
          <p:nvPr/>
        </p:nvPicPr>
        <p:blipFill>
          <a:blip r:embed="rId1"/>
          <a:stretch/>
        </p:blipFill>
        <p:spPr>
          <a:xfrm>
            <a:off x="1619280" y="1413000"/>
            <a:ext cx="6127560" cy="46069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1258920" y="609300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xture left in warm place covered by damp clo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6.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Proving the doug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000" y="5876640"/>
            <a:ext cx="867564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ast releases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bbles making dough r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4" descr="The Dough having Risen"/>
          <p:cNvPicPr/>
          <p:nvPr/>
        </p:nvPicPr>
        <p:blipFill>
          <a:blip r:embed="rId1"/>
          <a:stretch/>
        </p:blipFill>
        <p:spPr>
          <a:xfrm>
            <a:off x="1619280" y="1341360"/>
            <a:ext cx="6192720" cy="44784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7.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Baking brea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5229360"/>
            <a:ext cx="807552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fter dough rises a couple of hours in a warm place, it's ready to go into the ove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re, heat causes pockets of gas in the dough to expan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4" descr="The Baked Bread"/>
          <p:cNvPicPr/>
          <p:nvPr/>
        </p:nvPicPr>
        <p:blipFill>
          <a:blip r:embed="rId1"/>
          <a:stretch/>
        </p:blipFill>
        <p:spPr>
          <a:xfrm>
            <a:off x="1908000" y="1484280"/>
            <a:ext cx="4897440" cy="368136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Yea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187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gle celled microorga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 of fung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ist on all living mat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 chromos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ndreds of different specie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yeast_cell_final_resample"/>
          <p:cNvPicPr/>
          <p:nvPr/>
        </p:nvPicPr>
        <p:blipFill>
          <a:blip r:embed="rId1"/>
          <a:stretch/>
        </p:blipFill>
        <p:spPr>
          <a:xfrm>
            <a:off x="4629240" y="1484280"/>
            <a:ext cx="4295520" cy="50468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Did you know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may not look much like yeast or they like us, but many of the 6,000 genes in yeast have counterparts in human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Fig4pombeEM"/>
          <p:cNvPicPr/>
          <p:nvPr/>
        </p:nvPicPr>
        <p:blipFill>
          <a:blip r:embed="rId1"/>
          <a:stretch/>
        </p:blipFill>
        <p:spPr>
          <a:xfrm>
            <a:off x="2124000" y="3357720"/>
            <a:ext cx="4562640" cy="31114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04%20yeast%20cells"/>
          <p:cNvPicPr/>
          <p:nvPr/>
        </p:nvPicPr>
        <p:blipFill>
          <a:blip r:embed="rId1"/>
          <a:stretch/>
        </p:blipFill>
        <p:spPr>
          <a:xfrm>
            <a:off x="2050920" y="1413000"/>
            <a:ext cx="5088240" cy="5229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Looking at Yea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Yeast as a Living Organis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a living organism, just like us, yeast needs the following to survive and flourish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sug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warm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iration is the process by which a living organism releases energy from its f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Do you remember the difference between aerobic and anaerobic respiration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Aerobic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mans produce energy through aerobic respi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erobic respiration glucose reacts with oxygen in the mitochondria of the cells to release energ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 dioxide and water are by-products of the reac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Aerobic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ucose + oxyg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 dioxi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wate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3851280" y="3068640"/>
            <a:ext cx="10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1:59:18Z</dcterms:created>
  <dc:creator>Hina</dc:creator>
  <dc:description/>
  <dc:language>en-US</dc:language>
  <cp:lastModifiedBy>LEGION2</cp:lastModifiedBy>
  <dcterms:modified xsi:type="dcterms:W3CDTF">2016-01-13T09:07:26Z</dcterms:modified>
  <cp:revision>21</cp:revision>
  <dc:subject/>
  <dc:title>Living Factories</dc:title>
</cp:coreProperties>
</file>